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9947-986B-4841-8605-F29902932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F295-5708-41BF-9CDB-CDB2B33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14C7-8666-48CA-9407-8B8216F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58B3-9E83-4B36-8211-6E2F34C4E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75CC-CC0A-47D7-9C47-68DAB19D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1A37-932C-496D-8B4B-1FAEB09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4B88-D074-4DDA-9215-20981C53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87F3-98A4-4584-BE35-CFF4D858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EA1D-25AA-431C-9F14-706EB243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9486-00F2-4A30-8ED1-3D31828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0FE0-349F-4761-B15F-006BAF8E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B432-EC42-494A-8480-D81C6109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August 1999     TC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5D26-4500-46E0-8D9C-BDCAF41C2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905120" cy="9046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7102" t="10104" r="7296" b="23232"/>
          <a:stretch/>
        </p:blipFill>
        <p:spPr>
          <a:xfrm>
            <a:off x="8001000" y="5791320"/>
            <a:ext cx="82224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Committee Electronic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Southw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-1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southworth@iee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Meeting Location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Meeting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Meeting Minutes After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eeting Attendees &amp; Thei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ommittee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ommittees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/ Topic of Sub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 Member and Support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-1 Combined with Status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 / Progress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Committee Generated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i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Periodic Status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to TAC and Committee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age, Current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Technical Pape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able Review Repor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age, Fu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Submittal of Papers to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Review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“On-line Technical Paper Review Propos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-1/tc1rpt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Web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We Want to Go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b Page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Committee Webmaster (pleas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Web Page Format Same for All T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ssociated Newsletter Web P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eb Pages as Committee Sees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Before &amp; After EMC Sympo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ubcommittee &amp; Reports Progres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tatus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Development Statu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by Andy Droz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C-S Technical Activities Web Page Committ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ee next she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to Board of Directors in June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on TAC Web Page,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ac/tacrpt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CS Web Committ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C-S Technical Activities Web Page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ber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y Drozd and David South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o1@aol.com, d.southworth@iee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onal Advis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d Hubing (EMC-S Web 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Sosa (IEEE Sta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ie Leonardis (IEEE Sta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Members Welcome to Join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of Web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ewh.ieee.org/soc/emcs/t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w Need to Electronically Commun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C Management TC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Majordomo Email Addres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asic Web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ed with Thei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 Evolved in Format an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Headquarters Then Hosted 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Web Hosting (http://www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w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ieee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domo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domo Email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lick Access to All Committe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to All Committe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hat All Members Are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-up Is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 by IEEE Headquar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One Contact to Add/Delete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Secret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domo Email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Majordomo Email List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eleccomm.ieee.org/domo/add-dom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Out Subscription Form &amp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bmi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ts &amp; Bolts of Majord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eleccomm.ieee.org/domo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’s Manual For Background Inf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eleccomm.ieee.org/demo1/ownerdoc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-1 Majordo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-1 Majord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-emcs-tc1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can Subscribe to the Lis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an Email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jordomo 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in Email Bo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cribe ieee-emcs-t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ail Subject Line is Ignored by Majordo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Pag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 Communication with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eting Agendas /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se by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se by T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Status of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Information For Potential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Web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Pag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&amp; Ch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s  (to be done electronically in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1st Introduction of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Ch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itation to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Special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Index Page that URL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rs &amp;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List of Current Committee Offi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Officers Emai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List of Current Committe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embers Emai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:  D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commend Putting Home Addresse &amp; Home Phone No. on Web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2:57:55Z</dcterms:created>
  <dc:creator>Dave Southworth</dc:creator>
  <dc:description/>
  <dc:language>en-US</dc:language>
  <cp:lastModifiedBy>Kimball Williams</cp:lastModifiedBy>
  <dcterms:modified xsi:type="dcterms:W3CDTF">1999-07-29T11:02:23Z</dcterms:modified>
  <cp:revision>10</cp:revision>
  <dc:subject/>
  <dc:title>Technical Committee Web Pages</dc:title>
</cp:coreProperties>
</file>