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4D8-96DE-468B-85BF-5FBA7FA5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68A-740F-4B80-8536-74A3178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5A6-056D-4B33-8243-707E3A8E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B50-11F9-4E91-8B77-AF8076AF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0F4-0249-4438-849B-4CCD6A13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CF6-15F6-43D3-B82F-6ACD8444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56C-E418-4361-ACD6-C65552D6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42C-24DE-4A2D-8338-95BBA247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33A6-81F8-41D9-93DB-4C55B51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74E-2C46-4EF3-9DAB-252B404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B22-D8D3-4C7C-8E35-F60459C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3EE-1133-4AA2-8A95-0AD945B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C841-D0D2-48C3-99A4-5F59944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4176-CD04-4C0E-B1AF-97500F0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ED1-39FE-440B-B0DF-CE02E0E0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6F5-7957-4A27-ADDA-E71CCCC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7CA0-E01B-4C09-A9CF-09965C63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830-DF91-4DA1-8C7D-BA644428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70F-8026-4FFE-816F-6727C2F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823-575F-4C72-8BD4-84B0858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F38-7EFF-4E80-AC63-30A0B9FE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B77-325D-4CC2-9F57-9B5BCE4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324-61F8-41F9-A50C-8143FB2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4F5-1F78-41F4-9C07-0967576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694A-C149-44B9-9717-EBCC970C3E0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05D1-CF58-487A-A31C-F58F4604C45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hyperlink" Target="http://ieee.org/web/membership/join/join.html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MC MANAGER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BRIEF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veloped b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C1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C Management Technical Commtte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MC Manager Resour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presentation was developed to provide a synopsis of resources for the manager of an EMC facility or EMC grou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most important asset to any EMC manager is the engineering and technical personn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most important asset to the staff is a resourceful EMC manag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nag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kills for effective manage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C Resour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rsonn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MC Resour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nager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56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ich is more important – Personnel skills or Technical Skill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en directing personnel, the key is good personnel skills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ne knowledge base with IEE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Engineering Management Review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published since 1973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provides original articles, columnists, and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reprints of articles from other publications related to the professional practice of engineering.   Spanning a wide portfolio of topics in the management of engineering and technology, 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EMR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provides its readers with the best articles drawn from the most highly regarded authors and journal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ttp://www.ewh.ieee.org/soc/ems/emr/emronline.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Engineering Management Review, IEEE"/>
          <p:cNvPicPr/>
          <p:nvPr/>
        </p:nvPicPr>
        <p:blipFill>
          <a:blip r:embed="rId6"/>
          <a:stretch/>
        </p:blipFill>
        <p:spPr>
          <a:xfrm>
            <a:off x="228600" y="5105520"/>
            <a:ext cx="1143000" cy="1523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MC Manager Train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key opportunity for mentoring is participation in TC-1, the Technical Committee on EMC Managem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ld yearly at the IEEE EMC Symposi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sit http://www.emc2007.org (add current year in URL address) for inf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twork with other EMC managers at mee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sit TC1 web site: http://www.ewh.ieee.org/soc/emcs/tc1/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ersonnel Skil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arpen your EMC technical staf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ve them participate in key Technical Committees which are a part of the IEEE EMC Symposiu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ttp://www.ewh.ieee.org/soc/emcs/tac/tacchair.ht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ve them participate in the technical paper sessions at the IEEE EMC Symposiu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tworking with other EMC technical personnel at the IEEE EMC Symposium also sharpens their skills and expands their knowledge to solve more proble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mbership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courage your technical staff to join IEEE EMC Socie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http://ieee.org/web/membership/join/join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mbership provides them with access to technical documentation and EMC experts for adv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EEE brings together knowledge, community, and profess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ttp://ieee.org/web/membership/benefits/index.htm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160" y="1143000"/>
            <a:ext cx="735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e you and your technical staff at the next IEEE EMC Symposium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4953240" cy="371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56:06Z</dcterms:created>
  <dc:creator>sde3</dc:creator>
  <dc:description/>
  <dc:language>en-US</dc:language>
  <cp:lastModifiedBy>sde3</cp:lastModifiedBy>
  <dcterms:modified xsi:type="dcterms:W3CDTF">2007-06-11T03:24:21Z</dcterms:modified>
  <cp:revision>6</cp:revision>
  <dc:subject/>
  <dc:title>2007 IEEE EMC Symposium EMC Management Training Session</dc:title>
</cp:coreProperties>
</file>