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CBB-3D1C-4CF2-9909-A9227BA1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385-160A-40AD-B100-4467031C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766-091E-46C2-A79D-1A015882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182-1948-43ED-8392-AEF1F48E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FDF-DD3A-42AC-A99A-58802AE1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38D-86A9-4434-A6F6-6AA25786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BBC-6334-4F78-998A-21B1E788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077-65FF-4D59-A544-C6CB9869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7D8-1A08-4BE1-930C-92C97C78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D5A-B58B-40F0-879B-01E48369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507-08D5-4E31-84AF-1101112F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1C2-07CA-4F9F-980F-1F1D7D8B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C172-5CCD-483E-9C67-D5E5F3974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eee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ewh.ieee.org/soc/emcs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Committee Offic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s /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C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Bblack" descr="MBblac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6560" y="698400"/>
            <a:ext cx="1714680" cy="57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EMC Socie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762120"/>
            <a:ext cx="125712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e-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osition observes the next position to learn the duties since each position is rotated up every 3 years with a new secretary elected to fill that vac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ir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de at meetings of the Committee at the IEEE EMC Symposium and any other planned meetings (have an agenda and, if applicable, reports from your committee member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the Committee to the attainment of goals established at the last EMC Symposium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e the Committee to maximize satisfaction of Committee member needs with the resources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nd present plans for Committee to the TAC Committee for review (TAC meeting held towards the end of the Symposium we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 Sub-committee activity and encourage prog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other Committee Officers to insure satisfactory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e that Committee’s web page represents current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the Committee at the TAC Committee meeting and all IEEE gather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1333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ce-Chair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the Chair in operating the Committee to maximize satisfaction of Committee member needs with the resources available. 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develop/review plans for Committee meetings covering the EMC Management Professional and Technical areas (in accordance with charter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with sub-committees progress, participate in appropriate sub-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 Committee meeting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bsence of the Chair, preside at meetings of the Committee (have an agenda and the reports from sub-committee members, if applicabl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bsence of the Committee Chair, represent the Committee at the TAC meeting (TAC meeting held towards the end of the Symposium we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and support the Chair as required / assig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5302080"/>
            <a:ext cx="175284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ary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Technical Committee web site and documents as they relate to Committee activity, including TAC Handbook (http://www.ewh.ieee.org/soc/emcs/tac/reports/tachdbk.doc)  This should be done within the first month of assuming offic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meeting location configuration for next meeting at IEEE EMC Sympos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agenda and meeting notices for the Committee meeting prior to IEEE EMC Symposium meeting (about 1 to 2 months ahead of meeting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d Committee meetings at the IEEE EMC Symposium and any other meetings setup by Ch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st Committee Chair and Vice-Chair in planning a 5-year calendar of activities and meet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 minutes of all Committee meetings. Maintain records of Committee meet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tain details regarding the best means of communication from the previous Secretary, the TAC handbook, or another experienced Committee office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TAC Handbook to check to see that it is up to date. If necessary, make revisions and submit to the Committee for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t meeting activity summary, election results (if any), 5 year plan for Chair to present at the TAC meeting held towards the end of the IEEE EMC Symposium meeting we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40800" y="5791320"/>
            <a:ext cx="8935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ive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people are looking for in effective meetings</a:t>
            </a:r>
            <a:r>
              <a:rPr b="1" lang="en-US" sz="3200" spc="-1" strike="noStrike" baseline="48000">
                <a:solidFill>
                  <a:srgbClr val="000000"/>
                </a:solidFill>
                <a:latin typeface="Arial"/>
                <a:ea typeface="Times New Roman"/>
              </a:rPr>
              <a:t>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8%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6% – define the meeting’s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2% – address each item on the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9% – assign follow-up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7% – record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6% – invite essential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6% – publish an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6248520"/>
            <a:ext cx="5638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‡ 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From </a:t>
            </a:r>
            <a:r>
              <a:rPr b="0" i="1" lang="en-US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G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M Consultants, Pittsburgh, PA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formation on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IEEE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ieee.org/portal/cms_docs_iportals/iportals/geo_activities/rab/scs/Resources/Officer_Training/presentations/Effective_Meetings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2:07:18Z</dcterms:created>
  <dc:creator>TC1 Chair 2007</dc:creator>
  <dc:description/>
  <dc:language>en-US</dc:language>
  <cp:lastModifiedBy>sde3</cp:lastModifiedBy>
  <dcterms:modified xsi:type="dcterms:W3CDTF">2007-06-11T02:48:14Z</dcterms:modified>
  <cp:revision>3</cp:revision>
  <dc:subject>Officers Positions Responsbilities</dc:subject>
  <dc:title>Technical Committee Officers Positions Responsbilities</dc:title>
</cp:coreProperties>
</file>