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14FF-BC6F-470A-AA56-DED7707C5A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BA78-5DA1-47F6-98D1-25C543DD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1A0F-2A47-42CE-8BA9-C96E0383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2299-5B8C-407D-B800-FFBFE342D7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32FC-93C5-4040-BE2F-935781CD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3C70-753A-442D-BB49-0378C9F3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3397-5C89-4816-920A-22ACCA37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E0E6-00FC-4946-8634-9C0913BE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9D68-5C14-4019-AD6A-0A7AA204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6CF8-76C9-4190-84E1-9BE217EC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19C0-DE58-40D4-B597-12F4AE33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DBFE-1AFE-451F-B9A1-AAB71795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2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August 1999     TC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d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E2A7-5D3C-453C-B9B0-1A5A1BA16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905120" cy="9046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7102" t="10104" r="7296" b="23232"/>
          <a:stretch/>
        </p:blipFill>
        <p:spPr>
          <a:xfrm>
            <a:off x="8001000" y="5791320"/>
            <a:ext cx="822240" cy="73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Committee Electronic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Southw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-1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southworth@iee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s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 Meeting Location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 Meeting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Meeting Minutes After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eeting Attendees &amp; Thei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ommittees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ommittees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/ Topic of Sub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 Member and Support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-1 Combined with Status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 / Progress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s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Committee Generated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li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Periodic Status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 to TAC and Committee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age, Current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Technical Pape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current Electronic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 up by each EMC Symposium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Web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We Want to Go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it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Committee Webmaster (pleas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Web Pages as Committee Sees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Before &amp; Af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C Sympo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ubcommittee &amp; Reports Progres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of Web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list of all the TC web pag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he TAC web pag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ewh.ieee.org/soc/emcs/tac/tacchair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w Need to Electronically Commun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C Management TC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Majordomo Email Address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asic Web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ed with Their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 Evolved in Format an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Headquarters Then Hosted 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Web Hosting (http://ewh.ieee.org/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domo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domo Email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lick Access to All Committe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to All Committe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that All Members Are In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-up Is E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 by IEEE Headquar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One Contact to Add/Delete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Secret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domo Email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Majordomo Email List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eleccomm.ieee.org/maillist.s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Out Subscription Form &amp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bmi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ts &amp; Bolts of Majord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listserv.ieee.org/cgi-bin/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’s Manual For Background Inf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listserv.ieee.org/request/user-guide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-1 Majordo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-1 Majord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-emcs-tc1@majordomo.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can Subscribe to the List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an Email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jordomo @majordomo.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in Email Bo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cribe ieee-emcs-t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ail Subject Line is Ignored by Majordo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Pag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te Communication with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eeting Agendas /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se by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se by T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Status of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Information For Potential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Web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Pag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&amp; Ch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s  (to be done electronically in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1st Introduction of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Ch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itation to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for Special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Index Page that URL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icers &amp;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List of Current Committee Offi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Officers Emai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List of Current Committe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embers Emai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:  D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ecommend Putting Home Addresse &amp; Home Phone No. on Web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2:57:55Z</dcterms:created>
  <dc:creator>Dave Southworth</dc:creator>
  <dc:description/>
  <dc:language>en-US</dc:language>
  <cp:lastModifiedBy>sde3</cp:lastModifiedBy>
  <dcterms:modified xsi:type="dcterms:W3CDTF">2007-06-11T01:41:07Z</dcterms:modified>
  <cp:revision>11</cp:revision>
  <dc:subject/>
  <dc:title>Technical Committee Web Pages</dc:title>
</cp:coreProperties>
</file>