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2F0B-AAC1-41E4-8D99-119991AA74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5C7BD-5204-425A-BF41-4FF7414C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65625-355A-496C-8B38-1E3E92F7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2785E-7B93-46B4-AC65-5324AC8E7E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857E-56C2-4924-8EDF-8875A9962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88EA2-7DBB-4254-887A-5EA8E7D9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4048-FE01-4C4A-9D69-B3CBE15CC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18899-6690-4954-B4F7-9098F0589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146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8209-6E29-47BA-A680-1CAF95E8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556A-2E46-4F1A-9DEC-69C7BC2C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663C6-57C9-4281-92AA-15C6A028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9167C-C684-4ACA-BBAE-8DFE6C938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72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 August 1999     TC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57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69E9E-AABD-4949-A121-595C1C1FD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85800" y="762120"/>
            <a:ext cx="1905120" cy="90468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3"/>
          <a:srcRect l="7102" t="10104" r="7296" b="23232"/>
          <a:stretch/>
        </p:blipFill>
        <p:spPr>
          <a:xfrm>
            <a:off x="8001000" y="5791320"/>
            <a:ext cx="822240" cy="730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Committee Electronic Commun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vid Southwo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-1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southworth@ieee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etings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 Meeting Location/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nounce Meeting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for Meeting Minutes After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eeting Attendees &amp; Their E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bcommittees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ommittees L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tle / Topic of Sub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d Member and Support Team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-1 Combined with Status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us / Progress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orts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Committee Generated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cal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bliograp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Periodic Status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 to TAC and Committee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view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age, Current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Technical Paper Re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able Review Report 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ew Page, Futu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Submittal of Papers to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ctronic Review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“On-line Technical Paper Review Proposa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-1/tc1rpt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of Web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We Want to Go To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raf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b Pages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ign Committee Webmaster (please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 Web Page Format Same for All TC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ssociated Newsletter Web Pag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 Web Pages as Committee Sees N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Before &amp; After EMC Sympo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Subcommittee &amp; Reports Progress M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Status Re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 Development Status Re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by Andy Droz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ir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C-S Technical Activities Web Page Committ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ee next she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ed to Board of Directors in June 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on TAC Web Page, 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ac/tacrpts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6688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MCS Web Committ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MC-S Technical Activities Web Page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ember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y Drozd and David South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ro1@aol.com, d.southworth@iee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itional Advis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d Hubing (EMC-S Web p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ke Sosa (IEEE Sta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ie Leonardis (IEEE Sta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Members Welcome to Join 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 of Web P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ewh.ieee.org/soc/emcs/t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w Need to Electronically Communic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C Management TC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Majordomo Email Address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ed Basic Web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rimented with Their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b Page Evolved in Format and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Headquarters Then Hosted 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ity Web Hosting (http://www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w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ieee.or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domo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domo Email Add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click Access to All Committe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ailable to All Committe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sure that All Members Are Inclu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-up Is Ea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 by IEEE Headquar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One Contact to Add/Delete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Secreta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jordomo Email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a Majordomo Email List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eleccomm.ieee.org/domo/add-domo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 Out Subscription Form &amp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ubmit Requ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ts &amp; Bolts of Majordo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eleccomm.ieee.org/domo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wner’s Manual For Background Inf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tp://eleccomm.ieee.org/demo1/ownerdoc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C-1 Majordo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-1 Majordom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-emcs-tc1@majordomo.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 can Subscribe to the List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 an Email t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ajordomo @majordomo.iee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st in Email Bo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bscribe ieee-emcs-tc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Email Subject Line is Ignored by Majordom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 Page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ilitate Communication with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Meeting Agendas / Re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se by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Use by T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Status of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 Information For Potential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posed Web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Pag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 &amp; Ch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fic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bcommitt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et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s  (to be done electronically in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me P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1st Introduction of Committ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ittee Char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vitation to Jo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d for Special Annou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so, Index Page that URL Points 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wh.ieee.org/soc/emcs/tc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146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ficers &amp; Me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fi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List of Current Committee Offic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Officers Emai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List of Current Committee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embers Email Addr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e:  D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Recommend Putting Home Addresse &amp; Home Phone No. on Web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7T12:57:55Z</dcterms:created>
  <dc:creator>Dave Southworth</dc:creator>
  <dc:description/>
  <dc:language>en-US</dc:language>
  <cp:lastModifiedBy>Kimball Williams</cp:lastModifiedBy>
  <dcterms:modified xsi:type="dcterms:W3CDTF">1999-07-29T11:02:23Z</dcterms:modified>
  <cp:revision>10</cp:revision>
  <dc:subject/>
  <dc:title>Technical Committee Web Pages</dc:title>
</cp:coreProperties>
</file>